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171-59E5-4AD5-9DD7-50015E2A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C16-AAE7-4FA8-9032-099F08E38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717-40DE-4415-A612-7F752A94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FD0-0050-4A66-9157-7CA0EC46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F7C8-3B2B-4DAA-884B-4A6E8FA8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8A88-88B4-4917-B0A2-8E3A7838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547A-202E-4B43-B8A5-DABFB15A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678D-F29A-4547-B409-8FBDB0FA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B22C-6B6F-4E54-B977-BF71C1AF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D53B-E67F-40CF-BFC0-F28499E5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C938-20C4-4784-9F9D-DA6BB216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688-2BC0-4F28-A2CB-4D74A8B7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37A8-63B5-4FF4-A267-66264D67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361E-F153-4238-83EF-9AB85295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9519-A669-4997-B731-2775AD18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C325-401E-45E6-BA52-E54626A6F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EA0D-AB8D-4B12-9819-29C7A68F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E741-5763-459B-90AC-B3E9184F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933-E9D7-425E-9817-113B5A36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5571-BA55-4F0D-B16F-A7FB1373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852-974F-49C1-95D6-A9000617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335-2805-44BD-8C06-14F1996F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408-4119-46E5-B9B2-5FBCE508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779E-09B2-4604-A8A0-A5F6F123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3147-B455-4377-A727-66A9A2577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B11E-02EF-414F-A88B-BC31E0EFA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Page60r.png" TargetMode="External"/><Relationship Id="rId2" Type="http://schemas.openxmlformats.org/officeDocument/2006/relationships/hyperlink" Target="file:///../Page60r.png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000000"/>
                </a:solidFill>
                <a:latin typeface="Verdana"/>
              </a:rPr>
              <a:t>TPRS</a:t>
            </a:r>
            <a:endParaRPr b="0" lang="en-US" sz="9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28600" y="25142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FLAP Summer Institute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ptember 20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宋湘雲 老師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151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ffirmative 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uestion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肯定問句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請用生活華語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課本第</a:t>
            </a:r>
            <a:r>
              <a:rPr b="0" lang="en-US" sz="3600" spc="-1" strike="noStrike" u="sng">
                <a:solidFill>
                  <a:srgbClr val="336699"/>
                </a:solidFill>
                <a:uFillTx/>
                <a:latin typeface="Verdana"/>
                <a:ea typeface="宋体"/>
                <a:hlinkClick r:id="rId1"/>
              </a:rPr>
              <a:t>60</a:t>
            </a:r>
            <a:r>
              <a:rPr b="0" lang="zh-CN" sz="3600" spc="-1" strike="noStrike" u="sng">
                <a:solidFill>
                  <a:srgbClr val="336699"/>
                </a:solidFill>
                <a:uFillTx/>
                <a:latin typeface="Verdana"/>
                <a:ea typeface="宋体"/>
                <a:hlinkClick r:id="rId2"/>
              </a:rPr>
              <a:t>頁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的圖片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請與您旁邊的老師互相練習肯定問句。（每個人練習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分鐘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例：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A: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弟弟在看書嗎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B: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是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Either / or ?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還是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或者”問句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請用生活華語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課本第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頁的圖片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請與您旁邊的老師互相練習 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新細明體"/>
              </a:rPr>
              <a:t>“還是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新細明體"/>
              </a:rPr>
              <a:t>/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新細明體"/>
              </a:rPr>
              <a:t>或者”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問句。（每個人練習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分鐘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例：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A: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弟弟在</a:t>
            </a:r>
            <a:r>
              <a:rPr b="1" i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看書</a:t>
            </a:r>
            <a:r>
              <a:rPr b="0" lang="zh-TW" sz="3600" spc="-1" strike="noStrike">
                <a:solidFill>
                  <a:srgbClr val="000000"/>
                </a:solidFill>
                <a:latin typeface="Verdana"/>
                <a:ea typeface="新細明體"/>
              </a:rPr>
              <a:t>還是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i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洗澡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B: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看書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Question with a negative answer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否定問句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請用生活華語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課本第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頁的圖片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請與您旁邊的老師互相練習否定問句。（每個人練習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分鐘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例：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A: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小狗在看書嗎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B: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不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peat affirmative question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Verdana"/>
                <a:ea typeface="宋体"/>
              </a:rPr>
              <a:t>重復一遍答案的肯定問句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48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請用生活華語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課本第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60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頁的圖片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請與您旁邊的老師互相練習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肯定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問句。（每個人練習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分鐘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例：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A: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弟弟在看書嗎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宋体"/>
              </a:rPr>
              <a:t>B: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是，弟弟在看書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000000"/>
                </a:solidFill>
                <a:latin typeface="Verdana"/>
                <a:ea typeface="宋体"/>
              </a:rPr>
              <a:t>三合一</a:t>
            </a: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不， 那 </a:t>
            </a:r>
            <a:r>
              <a:rPr b="1" lang="en-US" sz="45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這不是</a:t>
            </a:r>
            <a:r>
              <a:rPr b="1" lang="en-US" sz="4500" spc="-1" strike="noStrike">
                <a:solidFill>
                  <a:srgbClr val="000000"/>
                </a:solidFill>
                <a:latin typeface="Verdana"/>
                <a:ea typeface="宋体"/>
              </a:rPr>
              <a:t>…  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那 </a:t>
            </a:r>
            <a:r>
              <a:rPr b="1" lang="en-US" sz="45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這是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例：那 </a:t>
            </a:r>
            <a:r>
              <a:rPr b="0" lang="en-US" sz="45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0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這是桌子嗎？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不， 那 </a:t>
            </a:r>
            <a:r>
              <a:rPr b="0" lang="en-US" sz="45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0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這不是桌子，  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那 </a:t>
            </a:r>
            <a:r>
              <a:rPr b="0" lang="en-US" sz="45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0" lang="zh-CN" sz="4500" spc="-1" strike="noStrike">
                <a:solidFill>
                  <a:srgbClr val="000000"/>
                </a:solidFill>
                <a:latin typeface="Verdana"/>
                <a:ea typeface="宋体"/>
              </a:rPr>
              <a:t>這是椅子。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Verdana"/>
                <a:ea typeface="宋体"/>
              </a:rPr>
              <a:t>小組練習 </a:t>
            </a:r>
            <a:r>
              <a:rPr b="0" lang="en-US" sz="5000" spc="-1" strike="noStrike">
                <a:solidFill>
                  <a:srgbClr val="000000"/>
                </a:solidFill>
                <a:latin typeface="Verdana"/>
                <a:ea typeface="宋体"/>
              </a:rPr>
              <a:t>TPRS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640" y="1599840"/>
            <a:ext cx="8043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每一小組最多三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請從生活華語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課本當中，任選一個教材。運用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TPRS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之技巧，在您所屬的小組裡，示範教學。每一個人輪流試教十分鐘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示範教學完畢後，請提出問題，分享心得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Verdana"/>
              </a:rPr>
              <a:t>What is TPRS?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868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0000"/>
                </a:solidFill>
                <a:latin typeface="Verdana"/>
              </a:rPr>
              <a:t>T</a:t>
            </a:r>
            <a:r>
              <a:rPr b="0" lang="en-US" sz="6200" spc="-1" strike="noStrike">
                <a:solidFill>
                  <a:srgbClr val="000000"/>
                </a:solidFill>
                <a:latin typeface="Verdana"/>
              </a:rPr>
              <a:t>eaching </a:t>
            </a:r>
            <a:r>
              <a:rPr b="0" lang="en-US" sz="62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0" lang="en-US" sz="6200" spc="-1" strike="noStrike">
                <a:solidFill>
                  <a:srgbClr val="000000"/>
                </a:solidFill>
                <a:latin typeface="Verdana"/>
              </a:rPr>
              <a:t>roficiency    Through </a:t>
            </a:r>
            <a:endParaRPr b="0" lang="en-US" sz="6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0000"/>
                </a:solidFill>
                <a:latin typeface="Verdana"/>
              </a:rPr>
              <a:t>R</a:t>
            </a: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eading &amp; </a:t>
            </a:r>
            <a:r>
              <a:rPr b="0" lang="en-US" sz="62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torytelling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Verdana"/>
              </a:rPr>
              <a:t>TPRS </a:t>
            </a:r>
            <a:r>
              <a:rPr b="0" lang="zh-CN" sz="4700" spc="-1" strike="noStrike">
                <a:solidFill>
                  <a:srgbClr val="000000"/>
                </a:solidFill>
                <a:latin typeface="Verdana"/>
                <a:ea typeface="宋体"/>
              </a:rPr>
              <a:t>三步驟</a:t>
            </a:r>
            <a:endParaRPr b="0" lang="en-US" sz="4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12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Step 1: Vocabulary (Show)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12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Step 2: Story (Tell/Ask)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12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Step 3: Literacy (Read)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  <a:p>
            <a:pPr marL="450720"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50720"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50720"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source from Jason Fritz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ORYTELLING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K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9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Don’t tell the story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Ask it!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Co-create the story with your students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9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You are the story editor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Verdana"/>
              </a:rPr>
              <a:t>(NOT the story teller)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Resource from Jason Fritz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209680" y="609480"/>
            <a:ext cx="20574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Line 5"/>
          <p:cNvSpPr/>
          <p:nvPr/>
        </p:nvSpPr>
        <p:spPr>
          <a:xfrm flipH="1">
            <a:off x="2133360" y="533520"/>
            <a:ext cx="2057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K the STORY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Questioning is the key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State and ques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ttempt to ask at least 4 questions for each statement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Low to high level questions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Yes/n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Either/o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Fill in the blank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Who? Where? When? What?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How? Why?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Resource from Jason Fritze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8"/>
          <p:cNvGraphicFramePr/>
          <p:nvPr/>
        </p:nvGraphicFramePr>
        <p:xfrm>
          <a:off x="609480" y="762120"/>
          <a:ext cx="7532640" cy="57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62120"/>
                    <a:ext cx="7532640" cy="57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ow is BEP important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Bizarre 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Exaggerated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Personalized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ource from Jason Fritz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1480" y="1752480"/>
            <a:ext cx="39258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2" descr="p1"/>
          <p:cNvPicPr/>
          <p:nvPr/>
        </p:nvPicPr>
        <p:blipFill>
          <a:blip r:embed="rId1"/>
          <a:stretch/>
        </p:blipFill>
        <p:spPr>
          <a:xfrm>
            <a:off x="4800600" y="1371600"/>
            <a:ext cx="3733920" cy="2719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2" descr="p2"/>
          <p:cNvPicPr/>
          <p:nvPr/>
        </p:nvPicPr>
        <p:blipFill>
          <a:blip r:embed="rId2"/>
          <a:stretch/>
        </p:blipFill>
        <p:spPr>
          <a:xfrm>
            <a:off x="4724280" y="4343400"/>
            <a:ext cx="381024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Circling (Question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boy has a bik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a boy have a bik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a boy have a bike or a ca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a boy have a ca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a boy have a bik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gress to more complex sent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actice this orally in groups also &amp; in Writ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source from Jason Fritz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Basic Circling (dribbling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ffirmative question (+)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ither / or ?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還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Question with a negative answer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peat affirmative ques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esource from Jason Fritz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20:08:21Z</dcterms:created>
  <dc:creator>Dad</dc:creator>
  <dc:description/>
  <dc:language>en-US</dc:language>
  <cp:lastModifiedBy>Monica</cp:lastModifiedBy>
  <dcterms:modified xsi:type="dcterms:W3CDTF">2009-09-14T03:14:15Z</dcterms:modified>
  <cp:revision>7</cp:revision>
  <dc:subject/>
  <dc:title>TPRS</dc:title>
</cp:coreProperties>
</file>